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857-AE29-43C8-8D37-830CD036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0AA-05F9-4CF3-B581-E38BB59C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5C1-074A-4FCA-985B-70413A9D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03E-EDF2-4797-A16F-6BF2358D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8B1-9A5C-41D0-A10C-10D23F1D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94B9-FE64-4B78-A98D-3AB31D8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BB84-89C7-4669-A9AE-4AB818A5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AC4B-E46C-4A9F-8C8B-652463B9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1718-6CAE-465B-B632-2FD57E2B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333B-F295-4E48-90B4-1D06212D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782F-7DCD-4214-BDBF-80E9157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097-B9AD-4ED5-A08B-556BC4F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B010-D00F-4B2B-997B-38B5645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3336-C0EF-46F8-8353-411CB31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01B9-554A-4685-9CA9-BA0E9387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164-D5A9-466C-B275-75F7638E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3BD-F484-485D-9AA1-2EDB7E16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89F-7FD4-4569-BDE2-00D72F29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C9A-058B-4BDF-9FCB-2F73D11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F5E-BA5F-49C6-9136-34FF4D99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D4B-B492-44AD-8FEA-C8C57C55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7C9-F5D5-46FE-8197-57A199AE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054-E08C-47FA-BC89-6B2013D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EA7-DE35-47D6-8C62-950E38F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BDF-68B5-46CA-8922-A3D61FC0D2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F022-B4D9-4CDC-95E0-B81DBBF6A3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al Cord and Ne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New Image"/>
          <p:cNvPicPr/>
          <p:nvPr/>
        </p:nvPicPr>
        <p:blipFill>
          <a:blip r:embed="rId1"/>
          <a:stretch/>
        </p:blipFill>
        <p:spPr>
          <a:xfrm>
            <a:off x="3429000" y="228600"/>
            <a:ext cx="2122560" cy="292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172200" y="182880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Arial"/>
              </a:rPr>
              <a:t>Gross Structure of Inferior End of Spinal 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-152280" y="0"/>
          <a:ext cx="548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548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520" y="2819160"/>
            <a:ext cx="50292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inal Cord Seg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6" descr="showimage"/>
          <p:cNvPicPr/>
          <p:nvPr/>
        </p:nvPicPr>
        <p:blipFill>
          <a:blip r:embed="rId1"/>
          <a:stretch/>
        </p:blipFill>
        <p:spPr>
          <a:xfrm>
            <a:off x="304920" y="0"/>
            <a:ext cx="35337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ninges of Spinal Cord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 mater (super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dural sh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ttach to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ural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and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ura mater and vert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dur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tween dura mater and arachno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showimage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28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ninges of Spinal Cord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chnoid mater (midd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le layer =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d off pia mater by root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arachnoi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rachnoid and pia m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 mater (de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s to brain/spinal cor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showimage"/>
          <p:cNvPicPr/>
          <p:nvPr/>
        </p:nvPicPr>
        <p:blipFill>
          <a:blip r:embed="rId1"/>
          <a:stretch/>
        </p:blipFill>
        <p:spPr>
          <a:xfrm>
            <a:off x="609480" y="2438280"/>
            <a:ext cx="381024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85840" y="277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gions of Spinal Co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cyg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vical + Lumbar enlar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da equ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us medu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um term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showimage"/>
          <p:cNvPicPr/>
          <p:nvPr/>
        </p:nvPicPr>
        <p:blipFill>
          <a:blip r:embed="rId1"/>
          <a:stretch/>
        </p:blipFill>
        <p:spPr>
          <a:xfrm>
            <a:off x="152280" y="228600"/>
            <a:ext cx="363708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y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neuron cell bodies, unmyelinated axons, dendrites, and neuro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d like an “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y commissure (crossb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ca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ho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ho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showimage"/>
          <p:cNvPicPr/>
          <p:nvPr/>
        </p:nvPicPr>
        <p:blipFill>
          <a:blip r:embed="rId1"/>
          <a:stretch/>
        </p:blipFill>
        <p:spPr>
          <a:xfrm>
            <a:off x="914400" y="2063880"/>
            <a:ext cx="3809880" cy="360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y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ior ho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interneurons that transmit in from outside spinal cord i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root contain sensory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matic Sensory (S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ceral Sensory (V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root ganglia - swelling in dorsal root that these interneurons pass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ho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bodies of motor neurons send info out of spinal cord to muscles and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entral Root contains Motor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ceral Mo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matic Mo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showimage"/>
          <p:cNvPicPr/>
          <p:nvPr/>
        </p:nvPicPr>
        <p:blipFill>
          <a:blip r:embed="rId1"/>
          <a:stretch/>
        </p:blipFill>
        <p:spPr>
          <a:xfrm>
            <a:off x="4267080" y="380880"/>
            <a:ext cx="3124440" cy="295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ite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s gray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myelinated and unmyelinated 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white columns (funicu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erior funic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terior funic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teral funic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communication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s of the spinal co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inal cord and b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showimage"/>
          <p:cNvPicPr/>
          <p:nvPr/>
        </p:nvPicPr>
        <p:blipFill>
          <a:blip r:embed="rId1"/>
          <a:stretch/>
        </p:blipFill>
        <p:spPr>
          <a:xfrm>
            <a:off x="914400" y="2063880"/>
            <a:ext cx="3809880" cy="360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ite Ma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ypes of nerve fi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c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ry sensory info from sensory neurons of body to br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uch, pressure, pain, tempera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ry motor instructions from brain to spinal c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action of muscles and secretion of glan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ol precise, skilled movement = writing, maintain balance, create m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oss from one side of cord to the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SpinalCord01"/>
          <p:cNvPicPr/>
          <p:nvPr/>
        </p:nvPicPr>
        <p:blipFill>
          <a:blip r:embed="rId1"/>
          <a:stretch/>
        </p:blipFill>
        <p:spPr>
          <a:xfrm>
            <a:off x="304920" y="2362320"/>
            <a:ext cx="419076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inal Nerves (31 Pair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480" y="17521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PNS (Somat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 in intervertebral for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lateral branches to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according to their point of issue from the vertebral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pairs of cervical spinal nerves;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pairs of thoracic spinal nerves;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irs of lumbar spinal nerves;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irs of sacral spinal nerves;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ir of coccygeal spinal nerves;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showimage"/>
          <p:cNvPicPr/>
          <p:nvPr/>
        </p:nvPicPr>
        <p:blipFill>
          <a:blip r:embed="rId1"/>
          <a:stretch/>
        </p:blipFill>
        <p:spPr>
          <a:xfrm>
            <a:off x="304920" y="1905120"/>
            <a:ext cx="47242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s the activity of muscles, organs, senses, an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up of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3 main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Receives sensory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Dictates motor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i_01_cr_fon_1b"/>
          <p:cNvPicPr/>
          <p:nvPr/>
        </p:nvPicPr>
        <p:blipFill>
          <a:blip r:embed="rId1"/>
          <a:stretch/>
        </p:blipFill>
        <p:spPr>
          <a:xfrm>
            <a:off x="5791320" y="3124080"/>
            <a:ext cx="304776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inal Ner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pinal nerve connected to spinal cord via dorsal (sensory) and ventral (motor)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nerves branch into dorsal ramus and ventral r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ral ram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s to rami communicates, which then lead to sympathetic chain gangl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ly anterior and lateral regions of the neck, trunk, and lim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rsal r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ly the dorsum of the neck and trunk (bac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howimage"/>
          <p:cNvPicPr/>
          <p:nvPr/>
        </p:nvPicPr>
        <p:blipFill>
          <a:blip r:embed="rId1"/>
          <a:stretch/>
        </p:blipFill>
        <p:spPr>
          <a:xfrm>
            <a:off x="4876920" y="3322800"/>
            <a:ext cx="3809880" cy="303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showimage"/>
          <p:cNvPicPr/>
          <p:nvPr/>
        </p:nvPicPr>
        <p:blipFill>
          <a:blip r:embed="rId1"/>
          <a:stretch/>
        </p:blipFill>
        <p:spPr>
          <a:xfrm>
            <a:off x="914400" y="2144880"/>
            <a:ext cx="3809880" cy="344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809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Big Pic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66920" y="1523520"/>
            <a:ext cx="3048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ateral to intervertebral foramen, each spinal nerve then splits i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Dorsal R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Ventral R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BOTH Sensory and Motor fibers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819520" y="3809880"/>
            <a:ext cx="1523880" cy="914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3505320" y="4114440"/>
            <a:ext cx="289548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3352320" y="4495680"/>
            <a:ext cx="29718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H="1">
            <a:off x="3581280" y="1905120"/>
            <a:ext cx="236232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fg076_2_2"/>
          <p:cNvPicPr/>
          <p:nvPr/>
        </p:nvPicPr>
        <p:blipFill>
          <a:blip r:embed="rId1"/>
          <a:stretch/>
        </p:blipFill>
        <p:spPr>
          <a:xfrm>
            <a:off x="990720" y="1295280"/>
            <a:ext cx="6581520" cy="501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259092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t All Toge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New Image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41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Text Box 3"/>
          <p:cNvSpPr/>
          <p:nvPr/>
        </p:nvSpPr>
        <p:spPr>
          <a:xfrm>
            <a:off x="838080" y="304920"/>
            <a:ext cx="7315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ic Nervous System = Visceral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tonomic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isceral Mo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easily controlled by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t nervous and sw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ervate smooth muscle,  cardiac muscle,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e viscer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art rate, blood pressure, digestion, ur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2 di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sympa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body to unwind and calm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ctive when body at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ine maintenanc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iosacral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bers emerge from brain and sacral spinal co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mpa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ht or fligh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izes the body during extreme sit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omes active when extra metabolic effort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racolumbar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bers arise from thoracic and lumbar parts of spinal co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tonomic Division of P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Picture 3" descr="showimage"/>
          <p:cNvPicPr/>
          <p:nvPr/>
        </p:nvPicPr>
        <p:blipFill>
          <a:blip r:embed="rId1"/>
          <a:stretch/>
        </p:blipFill>
        <p:spPr>
          <a:xfrm>
            <a:off x="1752480" y="1295280"/>
            <a:ext cx="474048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asympathetic Innerv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3" descr="showimage"/>
          <p:cNvPicPr/>
          <p:nvPr/>
        </p:nvPicPr>
        <p:blipFill>
          <a:blip r:embed="rId1"/>
          <a:stretch/>
        </p:blipFill>
        <p:spPr>
          <a:xfrm>
            <a:off x="1600200" y="504720"/>
            <a:ext cx="5572080" cy="635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I10-13-nerves2"/>
          <p:cNvPicPr/>
          <p:nvPr/>
        </p:nvPicPr>
        <p:blipFill>
          <a:blip r:embed="rId1"/>
          <a:stretch/>
        </p:blipFill>
        <p:spPr>
          <a:xfrm>
            <a:off x="1676520" y="1295280"/>
            <a:ext cx="6191280" cy="3571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matic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20120" cy="3429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vates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runs from CNS directly to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single neuron plus skeletal musc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ning, moving limbs, typing on a comput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rvous System 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5" name="Picture 6" descr="showimage"/>
          <p:cNvPicPr/>
          <p:nvPr/>
        </p:nvPicPr>
        <p:blipFill>
          <a:blip r:embed="rId1"/>
          <a:stretch/>
        </p:blipFill>
        <p:spPr>
          <a:xfrm>
            <a:off x="1219320" y="1143000"/>
            <a:ext cx="6933960" cy="551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visions of the Nervous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15000" cy="4876920"/>
          </a:xfrm>
          <a:prstGeom prst="rect">
            <a:avLst/>
          </a:prstGeom>
          <a:solidFill>
            <a:srgbClr val="ffffe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Nervous System (C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in an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inal c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s incoming sensory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ctates motor respon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Nervous System (P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r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anial nerves and spinal ner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between regions of body and C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showimage"/>
          <p:cNvPicPr/>
          <p:nvPr/>
        </p:nvPicPr>
        <p:blipFill>
          <a:blip r:embed="rId1"/>
          <a:stretch/>
        </p:blipFill>
        <p:spPr>
          <a:xfrm>
            <a:off x="5740560" y="1752480"/>
            <a:ext cx="3403440" cy="403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53520"/>
            <a:ext cx="6324480" cy="762120"/>
          </a:xfrm>
          <a:prstGeom prst="rect">
            <a:avLst/>
          </a:prstGeom>
          <a:noFill/>
          <a:ln w="9360">
            <a:solidFill>
              <a:srgbClr val="3300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 of Nervous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276720" cy="4190760"/>
          </a:xfrm>
          <a:prstGeom prst="rect">
            <a:avLst/>
          </a:prstGeom>
          <a:noFill/>
          <a:ln w="9360">
            <a:solidFill>
              <a:srgbClr val="33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dr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yelin Shea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x A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neuron_parts"/>
          <p:cNvPicPr/>
          <p:nvPr/>
        </p:nvPicPr>
        <p:blipFill>
          <a:blip r:embed="rId1"/>
          <a:stretch/>
        </p:blipFill>
        <p:spPr>
          <a:xfrm>
            <a:off x="5029200" y="2057400"/>
            <a:ext cx="27147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rganization of a Ner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5562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neu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rounds each axon (nerve fib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yelinated and Unmyelinated ax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and Sensory nerve fi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se 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neu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ndles axons into fasc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neu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ndles fascicles into a ne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brous 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 layers contain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nerve_structure"/>
          <p:cNvPicPr/>
          <p:nvPr/>
        </p:nvPicPr>
        <p:blipFill>
          <a:blip r:embed="rId1"/>
          <a:stretch/>
        </p:blipFill>
        <p:spPr>
          <a:xfrm>
            <a:off x="4800600" y="2230560"/>
            <a:ext cx="4343400" cy="257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Nerve Signals/Fib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(a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ed up by sensory receptors thru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ied by nerve fibers of PNS into C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(effe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ied away from the CNS by nerve fibers into P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ervate muscles and g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these organs to contract or secr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Sensory and Motor Signals/Fiber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tic sen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dy sen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uch, pressure, temperature, vibration of body, muscles stretching, bal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ceral sen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 sen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tch, pain, temperature in org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eg) nausea, hunger, cram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tic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dy mo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ntary contraction of skeletal mus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ceral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 mo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ction of smooth muscle, gla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Autonomic Nervous System (involunta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New Image"/>
          <p:cNvPicPr/>
          <p:nvPr/>
        </p:nvPicPr>
        <p:blipFill>
          <a:blip r:embed="rId1"/>
          <a:stretch/>
        </p:blipFill>
        <p:spPr>
          <a:xfrm>
            <a:off x="0" y="0"/>
            <a:ext cx="908676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NS – Spinal Co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79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through vertebral canal of the vertebral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ed by bone, meninges, and cerebrospinal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al cord made of a core of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gray ma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rounded by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pairs of spinal nerves branch off spinal cord through intervertebral for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in many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d in sensory and motor innervation of body inferior to the head (through spinal ner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2-way conduction pathway for signals between body and b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enter for refle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showimage"/>
          <p:cNvPicPr/>
          <p:nvPr/>
        </p:nvPicPr>
        <p:blipFill>
          <a:blip r:embed="rId1"/>
          <a:stretch/>
        </p:blipFill>
        <p:spPr>
          <a:xfrm>
            <a:off x="0" y="1066680"/>
            <a:ext cx="2968560" cy="541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9:43:04Z</dcterms:created>
  <dc:creator>Heather Townsend</dc:creator>
  <dc:description/>
  <dc:language>en-US</dc:language>
  <cp:lastModifiedBy>Sherry Zinn</cp:lastModifiedBy>
  <dcterms:modified xsi:type="dcterms:W3CDTF">2008-10-27T23:10:55Z</dcterms:modified>
  <cp:revision>55</cp:revision>
  <dc:subject/>
  <dc:title>Slide 1</dc:title>
</cp:coreProperties>
</file>